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7CD8-E602-4DC8-83F5-E798D02DC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AD1B-AB7C-4273-80B4-09817DA4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281-10E3-4C5C-9339-056E0B61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DAE-138F-4395-8144-99D38D1E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114-ED55-4341-8599-8B250CE2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3CE-5E01-4E6C-B690-C7B5D8CC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538-2710-4412-B5FB-89B2EAA1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4E8-75DF-4AAF-BEE4-64A9E1A6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0E9-B166-40A1-8712-F05320AD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E33-433E-4B5C-8146-95A34A2D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8C6-4C04-4D04-8023-CA0BFF67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D63-1B70-47B6-B110-65187BD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C31-E7A2-46D3-9D92-3E127C2F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C85-B9C2-49EC-95AF-4B18C8AE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C716-E6F6-4516-94A9-074370842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>
            <a:alpha val="8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arge India Map"/>
          <p:cNvPicPr/>
          <p:nvPr/>
        </p:nvPicPr>
        <p:blipFill>
          <a:blip r:embed="rId1"/>
          <a:stretch/>
        </p:blipFill>
        <p:spPr>
          <a:xfrm>
            <a:off x="3552840" y="666720"/>
            <a:ext cx="5591160" cy="6191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0" y="0"/>
            <a:ext cx="358128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genda 11-28 &amp; 29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*G.R. 5-1 Due next Block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*India Voc. PPT due next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0" y="914400"/>
            <a:ext cx="3581280" cy="366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11-28 &amp; 29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se the map to answer the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line of latitude runs through the northern part of Ind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 India mostly flat or mostly hilly with mountai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pare Saudi Arabia’s physical features to India’s.  What does India have more o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14300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ropic of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457200" y="3048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illy with plateau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457200" y="42670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dia has many rivers and is probably very fer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3:28:27Z</dcterms:created>
  <dc:creator>poweruser</dc:creator>
  <dc:description/>
  <dc:language>en-US</dc:language>
  <cp:lastModifiedBy>poweruser</cp:lastModifiedBy>
  <dcterms:modified xsi:type="dcterms:W3CDTF">2011-11-28T13:31:03Z</dcterms:modified>
  <cp:revision>3</cp:revision>
  <dc:subject/>
  <dc:title>Slide 1</dc:title>
</cp:coreProperties>
</file>